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B29-B763-4A05-A19E-3D3D4A40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C84-2D7D-4E68-9859-73F9D100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54A-9B6A-414B-9CF3-C908EB63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9FED-B416-45D0-82F0-D50399A8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2907-C209-4DE5-964C-C411A166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E038-7A2E-41CF-9C18-BFFA36AF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FA86-55F2-434E-B1D2-D3175BFB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9B95-940E-45BC-8C90-76E637C6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6C5A-4984-4DAA-A4EB-574E4A58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B87C-EC89-469E-98CD-3BA170F5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DE27-9715-439A-8552-12EAA841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836-31EE-408A-90B2-DEDA9E0A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BC6D-5C08-43DC-BA7E-0C89EC99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1F84-9A20-4E21-BED8-0D4A7C89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281E-85BC-48DF-AA5C-E879AC69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1BD2-FA16-4E7B-BFA9-2ABF60DE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C7F6-1020-4FF8-88A8-7A0F983D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2DA2F-230F-472A-B623-702972FA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A7F75-A1CB-4F75-BBB7-A04505E6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8EDBB-6C03-4829-9346-F4A7B322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01C21-4838-40C1-8C01-66241BB0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B400D-2D33-4D64-938F-1B41FA6C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294-D250-4D5E-A416-C7FF82C0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F6CAC-050D-41E5-BE1C-66F39E98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4FD61-49BD-4828-98C8-BFAB0081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F1084-AC23-4D72-8BE9-E985C994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457F5-0F8D-4566-9C37-3FBCE9DF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BB250-422E-47B8-9410-E5111EF2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ED6BD-149A-40A3-9AD7-BB57834B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FB008-9DB5-42BE-9835-8F06F599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7E3A1-2DA3-4C65-B6F3-03B15040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E98A8-1925-4F5F-A1FB-10394AB5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11D498-EACE-4C77-9F17-8D964CF7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F89-FD45-41A9-9A4F-614C8C46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F0687-8F42-442F-A4CB-EEA39305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D84C37-B030-4A02-8EF1-4474589D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20439B-2FF6-4C71-BEC7-E63B989A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A8DB4-F5C4-44EF-B585-D7099375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9F169E-6E25-4DA4-A4FA-0A79C880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D127FE-21E2-43AF-B3F9-514FBE63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893ED8-1B89-4416-ACD9-57833929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694335-C132-4AB3-96A4-73AA7FFD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007741-2B8A-4038-B208-C1A5FCCB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C4CB2-246A-4DB3-A045-BFBDEFC1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A2C-CB49-467B-879B-C1354FE2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24792-3FEF-412E-AE48-8B1A337E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AC7E3-F5B8-4175-9D40-F8926D1B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C1766-B897-49EF-8F78-6AC24250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0A00E-57DF-4E37-B1B9-BD3FE7D2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5B900-FD2D-4B2B-888B-0A02E48F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E739F-06C3-4FB5-9305-EBC5B958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4ABED-0B9E-4084-9E90-2C029866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A7F5DD-5FDA-4B9B-884C-587E7353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B3739-1C1A-491F-8F83-FEDEB42F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E7D73-195A-40E3-9BF7-0FEE864C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F04-6A8D-481F-9B49-A702E88C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CAF524-6FB8-4DA1-981B-B0D9B345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EB458-B52A-4330-BEEC-5D98B75E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DE9BF-9590-4DB6-AD8B-708AB590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39FD2-FBAA-4339-A6C6-58DCA965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2D8C3-37AB-492A-9199-523214AD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4C1DC-0454-4F61-B0C3-CD07FF30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4ACEB-559A-4D7C-82E9-E3A40A79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3D05A-AAA6-467B-A898-9F1ACD61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08417-3AE3-4BF2-A1B0-1734958D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C075F-0AD5-4CBA-8A0A-262A2281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503-28E4-4249-9278-B0F78EF0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704DE-A813-4217-AB6B-1B053987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D8CF3-20A1-4BE5-8873-14E56B18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D12A5-D7AF-4CC8-A0FC-18C1B363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38F0F0-2F7C-47C3-A22C-8678FC71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6586A-2E3B-41CA-A75C-AF6A0B0F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0226B-AA06-4E2A-8B54-4485A5B7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D7713-AC51-4874-9EFB-87DC9AF6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555C4D-FFB0-474A-A60F-46C13F53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1CBCB7-018E-4774-8796-4265689E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426CB8-717F-4AF4-96C6-76096C91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658-620E-4E6D-827F-7EDC743D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F45A77-D541-4F06-B058-02BD657A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0E4F30-930C-44AC-BB9E-04BF8312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C274E9-FD40-40C6-AA80-05734C3D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7E016F-D42C-4D0F-8C48-C7BA79FA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CD466A-B6F3-41F4-94F7-C995FE42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C0232-F09E-49E8-9D08-5937A799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B4940-0D33-40F3-81AF-301631E3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B4622-5750-4B35-A51C-BD943D42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CF7FC-055B-4DCD-8627-82B0E90C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9A40D-A7E7-438F-B162-0048318C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E1E-83ED-4FB4-8FDD-789DD218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98B83-A42C-47F7-BA09-86590E46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88F81-0BE6-44B9-9C75-7ABD66C4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49084-D152-4A01-A743-B5943472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4658A-0B75-4A23-9FA5-767905A8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4BE43-2D37-4342-8CF3-2FE259F9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0A6B8-907D-46B1-815C-E3A15962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97CCA-071B-484F-B3CD-AE2E3F63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1985-D193-45E7-A119-E5DC1EA81950}" type="slidenum">
              <a:rPr b="1" lang="es-MX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def5fa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721A-93A1-43AF-98D1-E33F683DF4D8}" type="slidenum">
              <a:rPr b="1" lang="es-MX" sz="1400" spc="-1" strike="noStrike">
                <a:solidFill>
                  <a:srgbClr val="def5fa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1B1D-D6CA-4EA1-9D93-6C4E064D347D}" type="slidenum">
              <a:rPr b="1" lang="es-MX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5877-055C-4DA9-B051-3DBF182658DA}" type="slidenum">
              <a:rPr b="1" lang="es-MX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09F7-8EF2-4527-823A-D2C2414A42B5}" type="slidenum">
              <a:rPr b="1" lang="es-MX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59EF-A9F8-4020-8FDE-5F81CD8C3AA6}" type="slidenum">
              <a:rPr b="1" lang="es-MX" sz="1400" spc="-1" strike="noStrike">
                <a:solidFill>
                  <a:srgbClr val="464646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2DEA-6F06-4C83-B617-571F37729CB3}" type="slidenum">
              <a:rPr b="1" lang="es-MX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7C2B-C59B-4FF4-B654-1B90733A6603}" type="slidenum">
              <a:rPr b="1" lang="es-MX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def5fa"/>
                </a:solidFill>
                <a:latin typeface="Tw Cen MT"/>
              </a:rPr>
              <a:t>COMUNICACIÓN</a:t>
            </a:r>
            <a:endParaRPr b="0" lang="en-US" sz="5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w Cen MT"/>
              </a:rPr>
              <a:t>“… </a:t>
            </a:r>
            <a:r>
              <a:rPr b="0" lang="es-MX" sz="2400" spc="-1" strike="noStrike">
                <a:solidFill>
                  <a:srgbClr val="ffffff"/>
                </a:solidFill>
                <a:latin typeface="Tw Cen MT"/>
              </a:rPr>
              <a:t>la verdadera raíz de la ineficiencia es el elevado coste de la comunicación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3143160" y="642960"/>
            <a:ext cx="3048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Tw Cen MT"/>
              </a:rPr>
              <a:t>La comunicación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Tw Cen MT"/>
              </a:rPr>
              <a:t>Es uno de los facilitadores más importantes administrativas. Sin ella no se puede intercambiar ideas y experiencias. Un gerente transmite ideas e información de su mente hacia otras mentes, lo que piensa de otra persona estimula la comunicació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Tw Cen MT"/>
              </a:rPr>
              <a:t>El gerente astuto, sabe que la gente está influenciada por muchos factores y toma en cuenta al interactuar con ella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Tw Cen MT"/>
              </a:rPr>
              <a:t>Con la comunicación se puede transmitir y recibir la información necesaria para ejecutar las decisiones, planes y actividades en una organizació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Tw Cen MT"/>
              </a:rPr>
              <a:t>La comunicación capacita al gerente para obtener datos para la toma de decisiones, para ayudarse a identificar problemas y saber que acciones son necesarias. Por lo que la comunicación es un medio, no un fin, hace posible el proceso administrativo, ayuda a que la planeación administrativa sea bien ejecutada, que se ejecute eficazmente y sea seguida con diligencia, y que el control administrativo sea aplicado con efectividad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Tw Cen MT"/>
              </a:rPr>
              <a:t>La comunicación es muy importante entre el Director y sus subordinados para mejor manejo de la empresa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64646"/>
                </a:solidFill>
                <a:latin typeface="Tw Cen MT"/>
              </a:rPr>
              <a:t>Tipos de Comunicación.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w Cen MT"/>
              </a:rPr>
              <a:t>Para cualquiera de esa comunicación de transmisión, está prescrita y estipulada la designación formal y la sanción oficial. Esto puede incluir órdenes ejecutivas respecto a nuevos sistemas de bonos o planes de acción, información técnica para propósito de la toma de decisiones y políticas sobre procedimientos y las reglas fijadas por los manuales o compañía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072040" y="4071960"/>
            <a:ext cx="2619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0000"/>
                </a:solidFill>
                <a:latin typeface="Tw Cen MT"/>
              </a:rPr>
              <a:t>Formal:</a:t>
            </a:r>
            <a:r>
              <a:rPr b="0" lang="es-MX" sz="2900" spc="-1" strike="noStrike">
                <a:solidFill>
                  <a:srgbClr val="000000"/>
                </a:solidFill>
                <a:latin typeface="Tw Cen MT"/>
              </a:rPr>
              <a:t> Es aquella que se da de carácter formal siguiendo reglas que impone un grupo, ejemplo: reuniones, juntas, entrevistas, etc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2786040" y="3143160"/>
            <a:ext cx="37242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0000"/>
                </a:solidFill>
                <a:latin typeface="Tw Cen MT"/>
              </a:rPr>
              <a:t>Informal:</a:t>
            </a:r>
            <a:r>
              <a:rPr b="0" lang="es-MX" sz="2900" spc="-1" strike="noStrike">
                <a:solidFill>
                  <a:srgbClr val="000000"/>
                </a:solidFill>
                <a:latin typeface="Tw Cen MT"/>
              </a:rPr>
              <a:t> Es aquella que parte simplemente de reuniones y es de carácter personal, esta distorsiona el mensaje que se quiere da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3000240" y="3286080"/>
            <a:ext cx="3357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0000"/>
                </a:solidFill>
                <a:latin typeface="Tw Cen MT"/>
              </a:rPr>
              <a:t>Ascendente:</a:t>
            </a:r>
            <a:r>
              <a:rPr b="0" lang="es-MX" sz="2900" spc="-1" strike="noStrike">
                <a:solidFill>
                  <a:srgbClr val="000000"/>
                </a:solidFill>
                <a:latin typeface="Tw Cen MT"/>
              </a:rPr>
              <a:t> Es aquella que va desde los niveles bajos de la comunicación hasta los niveles altos de una empres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0000"/>
                </a:solidFill>
                <a:latin typeface="Tw Cen MT"/>
              </a:rPr>
              <a:t>Descendiente:</a:t>
            </a:r>
            <a:r>
              <a:rPr b="0" lang="es-MX" sz="2900" spc="-1" strike="noStrike">
                <a:solidFill>
                  <a:srgbClr val="000000"/>
                </a:solidFill>
                <a:latin typeface="Tw Cen MT"/>
              </a:rPr>
              <a:t> Es aquella que va desde los niveles más altos a las más bajas, </a:t>
            </a:r>
            <a:r>
              <a:rPr b="1" lang="es-MX" sz="2900" spc="-1" strike="noStrike">
                <a:solidFill>
                  <a:srgbClr val="000000"/>
                </a:solidFill>
                <a:latin typeface="Tw Cen MT"/>
              </a:rPr>
              <a:t>ejemplo:</a:t>
            </a:r>
            <a:r>
              <a:rPr b="0" lang="es-MX" sz="2900" spc="-1" strike="noStrike">
                <a:solidFill>
                  <a:srgbClr val="000000"/>
                </a:solidFill>
                <a:latin typeface="Tw Cen MT"/>
              </a:rPr>
              <a:t> desde el presidente o gerente de una empresa hasta los obrer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4357800" y="4546440"/>
            <a:ext cx="297648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5:55:51Z</dcterms:created>
  <dc:creator>WinVist@</dc:creator>
  <dc:description/>
  <dc:language>en-US</dc:language>
  <cp:lastModifiedBy>AVAR</cp:lastModifiedBy>
  <dcterms:modified xsi:type="dcterms:W3CDTF">2014-11-18T17:41:12Z</dcterms:modified>
  <cp:revision>13</cp:revision>
  <dc:subject/>
  <dc:title>Diapositiva 1</dc:title>
</cp:coreProperties>
</file>