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C12F-BC9F-4B8C-B4A1-1F93FD36ACB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F6B0-51F4-4C6C-B3A4-4A6730A0750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A53F-FBC1-44EC-8FB9-3EB96DABD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2D9E-16AD-4D1D-94D6-8FCC77CA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64A5-E984-482F-AADA-CAC190EA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6963-A805-4F03-A192-71B3EF64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D48C-67A5-4759-9D5B-097775FF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16BF-0557-4CAD-BF50-8F2BBC00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92E7-9997-413A-8E1D-20C7E407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5A7B-E98D-4040-A571-21EA1E7D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C157-FFD7-40D9-A9A3-658516D27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E5C3-656C-450B-8E99-9B4949444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23D24-5DD3-414D-A67D-EE8A9485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2018-9BEC-4D54-8A44-2CCD7923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CCE4-6F03-4BC1-BE73-9915E194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62DE-5791-4F2E-A27A-F852E475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AAE17-A869-490B-A56F-8149294E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F3C68-36DD-41AF-A3ED-D80CC81FA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5ED9-503E-43A4-9CEA-4BBFD5E3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C497-C1F7-4322-A505-DE3C2BD7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2B3F-D0B5-456B-8B48-F439AB1C9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BB44-4CCB-4BFA-A103-ED707D7F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5772-910F-467D-8783-35003D41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77DD-884A-41F6-9FC2-0FFBD899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77CF-3AA1-4DD4-A70B-A7EBC77B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1E52-7F86-428A-A233-80260FC1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993D-6674-49AB-BADA-DCF8DEBCE1B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B3C6-256A-45B2-8885-57A2F9F2EF62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00000"/>
                </a:solidFill>
                <a:latin typeface="Aharoni"/>
                <a:ea typeface="Aharoni"/>
              </a:rPr>
              <a:t>PROCESO DE CONTRO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9" name="Rectangle 19"/>
          <p:cNvGrpSpPr/>
          <p:nvPr/>
        </p:nvGrpSpPr>
        <p:grpSpPr>
          <a:xfrm>
            <a:off x="6046920" y="1901880"/>
            <a:ext cx="2286000" cy="1243080"/>
            <a:chOff x="6046920" y="1901880"/>
            <a:chExt cx="2286000" cy="1243080"/>
          </a:xfrm>
        </p:grpSpPr>
        <p:pic>
          <p:nvPicPr>
            <p:cNvPr id="220" name="Rectangle 19" descr=""/>
            <p:cNvPicPr/>
            <p:nvPr/>
          </p:nvPicPr>
          <p:blipFill>
            <a:blip r:embed="rId1"/>
            <a:stretch/>
          </p:blipFill>
          <p:spPr>
            <a:xfrm>
              <a:off x="6046920" y="1901880"/>
              <a:ext cx="2286000" cy="124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6408720" y="1916280"/>
              <a:ext cx="1908360" cy="90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Arial"/>
                </a:rPr>
                <a:t>MEDICIÓN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"/>
                </a:rPr>
                <a:t>RESULTADO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" name="Rectangle 21"/>
          <p:cNvGrpSpPr/>
          <p:nvPr/>
        </p:nvGrpSpPr>
        <p:grpSpPr>
          <a:xfrm>
            <a:off x="5668920" y="4925880"/>
            <a:ext cx="2968560" cy="1133640"/>
            <a:chOff x="5668920" y="4925880"/>
            <a:chExt cx="2968560" cy="1133640"/>
          </a:xfrm>
        </p:grpSpPr>
        <p:pic>
          <p:nvPicPr>
            <p:cNvPr id="223" name="Rectangle 21" descr=""/>
            <p:cNvPicPr/>
            <p:nvPr/>
          </p:nvPicPr>
          <p:blipFill>
            <a:blip r:embed="rId2"/>
            <a:stretch/>
          </p:blipFill>
          <p:spPr>
            <a:xfrm>
              <a:off x="5668920" y="4925880"/>
              <a:ext cx="296856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6083280" y="4941720"/>
              <a:ext cx="25225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COMPARACIÓN PA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Arial"/>
                </a:rPr>
                <a:t>ESTABLECER DIFERENCIA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5" name="Rectangle 22"/>
          <p:cNvGrpSpPr/>
          <p:nvPr/>
        </p:nvGrpSpPr>
        <p:grpSpPr>
          <a:xfrm>
            <a:off x="3067200" y="4925880"/>
            <a:ext cx="2101680" cy="1133640"/>
            <a:chOff x="3067200" y="4925880"/>
            <a:chExt cx="2101680" cy="1133640"/>
          </a:xfrm>
        </p:grpSpPr>
        <p:pic>
          <p:nvPicPr>
            <p:cNvPr id="226" name="Rectangle 22" descr=""/>
            <p:cNvPicPr/>
            <p:nvPr/>
          </p:nvPicPr>
          <p:blipFill>
            <a:blip r:embed="rId3"/>
            <a:stretch/>
          </p:blipFill>
          <p:spPr>
            <a:xfrm>
              <a:off x="3067200" y="4925880"/>
              <a:ext cx="210168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3425760" y="4941720"/>
              <a:ext cx="1728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Arial"/>
                </a:rPr>
                <a:t>AC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"/>
                </a:rPr>
                <a:t>CORRECTIV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Rectangle 23"/>
          <p:cNvGrpSpPr/>
          <p:nvPr/>
        </p:nvGrpSpPr>
        <p:grpSpPr>
          <a:xfrm>
            <a:off x="353880" y="4925880"/>
            <a:ext cx="2144880" cy="1133640"/>
            <a:chOff x="353880" y="4925880"/>
            <a:chExt cx="2144880" cy="1133640"/>
          </a:xfrm>
        </p:grpSpPr>
        <p:pic>
          <p:nvPicPr>
            <p:cNvPr id="229" name="Rectangle 23" descr=""/>
            <p:cNvPicPr/>
            <p:nvPr/>
          </p:nvPicPr>
          <p:blipFill>
            <a:blip r:embed="rId4"/>
            <a:stretch/>
          </p:blipFill>
          <p:spPr>
            <a:xfrm>
              <a:off x="353880" y="4925880"/>
              <a:ext cx="214488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754200" y="4941720"/>
              <a:ext cx="1728720" cy="79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600" spc="-1" strike="noStrike">
                  <a:solidFill>
                    <a:srgbClr val="ff0000"/>
                  </a:solidFill>
                  <a:latin typeface="Arial"/>
                </a:rPr>
                <a:t>* 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"/>
                </a:rPr>
                <a:t>ACTIVIDAD D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MX" sz="1600" spc="-1" strike="noStrike">
                  <a:solidFill>
                    <a:srgbClr val="ffffff"/>
                  </a:solidFill>
                  <a:latin typeface="Arial"/>
                </a:rPr>
                <a:t>LA ACTU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" name="Rectangle 24"/>
          <p:cNvGrpSpPr/>
          <p:nvPr/>
        </p:nvGrpSpPr>
        <p:grpSpPr>
          <a:xfrm>
            <a:off x="665280" y="3090960"/>
            <a:ext cx="1944720" cy="938160"/>
            <a:chOff x="665280" y="3090960"/>
            <a:chExt cx="1944720" cy="938160"/>
          </a:xfrm>
        </p:grpSpPr>
        <p:pic>
          <p:nvPicPr>
            <p:cNvPr id="232" name="Rectangle 24" descr=""/>
            <p:cNvPicPr/>
            <p:nvPr/>
          </p:nvPicPr>
          <p:blipFill>
            <a:blip r:embed="rId5"/>
            <a:stretch/>
          </p:blipFill>
          <p:spPr>
            <a:xfrm>
              <a:off x="665280" y="3090960"/>
              <a:ext cx="194472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719280" y="3141720"/>
              <a:ext cx="18000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111111"/>
                  </a:solidFill>
                  <a:latin typeface="Arial"/>
                </a:rPr>
                <a:t>CONTRO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4" name="Line 25"/>
          <p:cNvSpPr/>
          <p:nvPr/>
        </p:nvSpPr>
        <p:spPr>
          <a:xfrm>
            <a:off x="5580000" y="2368440"/>
            <a:ext cx="7923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27"/>
          <p:cNvSpPr/>
          <p:nvPr/>
        </p:nvSpPr>
        <p:spPr>
          <a:xfrm>
            <a:off x="7362720" y="2820960"/>
            <a:ext cx="0" cy="20480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8"/>
          <p:cNvSpPr/>
          <p:nvPr/>
        </p:nvSpPr>
        <p:spPr>
          <a:xfrm flipH="1">
            <a:off x="5219280" y="5300640"/>
            <a:ext cx="863640" cy="19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29"/>
          <p:cNvSpPr/>
          <p:nvPr/>
        </p:nvSpPr>
        <p:spPr>
          <a:xfrm flipH="1">
            <a:off x="2519280" y="5300640"/>
            <a:ext cx="90648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30"/>
          <p:cNvSpPr/>
          <p:nvPr/>
        </p:nvSpPr>
        <p:spPr>
          <a:xfrm flipV="1">
            <a:off x="1619280" y="3968280"/>
            <a:ext cx="0" cy="973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31"/>
          <p:cNvSpPr/>
          <p:nvPr/>
        </p:nvSpPr>
        <p:spPr>
          <a:xfrm flipV="1">
            <a:off x="1619280" y="2305080"/>
            <a:ext cx="0" cy="8366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32"/>
          <p:cNvSpPr/>
          <p:nvPr/>
        </p:nvSpPr>
        <p:spPr>
          <a:xfrm>
            <a:off x="1619280" y="2305080"/>
            <a:ext cx="201600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" name="desk1"/>
          <p:cNvGrpSpPr/>
          <p:nvPr/>
        </p:nvGrpSpPr>
        <p:grpSpPr>
          <a:xfrm>
            <a:off x="3346560" y="1901880"/>
            <a:ext cx="2249280" cy="1390680"/>
            <a:chOff x="3346560" y="1901880"/>
            <a:chExt cx="2249280" cy="1390680"/>
          </a:xfrm>
        </p:grpSpPr>
        <p:pic>
          <p:nvPicPr>
            <p:cNvPr id="242" name="desk1" descr=""/>
            <p:cNvPicPr/>
            <p:nvPr/>
          </p:nvPicPr>
          <p:blipFill>
            <a:blip r:embed="rId6"/>
            <a:stretch/>
          </p:blipFill>
          <p:spPr>
            <a:xfrm>
              <a:off x="3346560" y="1901880"/>
              <a:ext cx="224928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>
              <a:off x="3795840" y="1957320"/>
              <a:ext cx="16970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NORMAS O BASES DEL CONTROL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4" name="1 CuadroTexto"/>
          <p:cNvSpPr/>
          <p:nvPr/>
        </p:nvSpPr>
        <p:spPr>
          <a:xfrm>
            <a:off x="900000" y="630864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0000"/>
                </a:solidFill>
                <a:latin typeface="Arial"/>
              </a:rPr>
              <a:t>* RETROALIMENTA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49:13Z</dcterms:created>
  <dc:creator>VIOLETA INFANSON VAZQUEZ</dc:creator>
  <dc:description/>
  <dc:language>en-US</dc:language>
  <cp:lastModifiedBy>AVAR</cp:lastModifiedBy>
  <dcterms:modified xsi:type="dcterms:W3CDTF">2014-12-02T07:01:35Z</dcterms:modified>
  <cp:revision>7</cp:revision>
  <dc:subject/>
  <dc:title>PROCESO DE CONTROL</dc:title>
</cp:coreProperties>
</file>